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0378806-0D62-4ADB-8B29-9078964AAC56}"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C2B10A7-6B97-471F-960C-02947E701E9D}"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D9A1DB0-55A3-4483-899E-E041D978CD6C}"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18BDA53-848A-438D-8711-24F70F5A6207}"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FE4842C9-F7C1-4795-B218-BA1342571182}"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FEA848B6-252D-4D6D-9D39-E9B0BBC5F864}"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7630B60-B5D0-4AB9-A68C-B4E0BD37ED08}"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442611-F549-4CB9-8541-232F789B53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48DCA4-1C17-409C-A153-24A2CE64FA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842331-A24C-477B-A8D0-9715C6DBAD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BA190D-FE8C-431F-93EC-B0E0008CD1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5289A7-5971-4085-AC9B-0D2787D5F2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F51873-69E6-4880-9B32-B1402B1C70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BAD182-B566-4388-9503-0E94EDB4F9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23FD31-A33E-4287-BBA9-0B5EA92839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CE371C-33B1-4C20-9888-4444DC8923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72DB7A-99FE-4587-B57A-10B66E16DB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13102F-936F-4A56-847D-B0561A2E64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90B69C-92D8-4F70-8253-A50BD9930A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01C4C4-D866-4951-83E2-0B41188BC5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C27D10-7A0C-4E2E-B980-B00088BD61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DBB27B-FD56-41F7-854A-83565B7C6A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A75228-13D6-4EA8-AED9-F62855085B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3B8380-5DE2-475F-9615-F1AFFFEB71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920E94-3E7B-48E0-8CE4-4FFBEDF95F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50DC2F-AF0A-4949-BBF5-E4576BE8F6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F4A590-648B-4DCD-8445-A6A8439C3D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3E61BE-3D93-4B49-A9DB-1F4543B0A5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73EE39-3E0A-4645-B802-7DDCC11B20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E579E2-92BE-4F71-AC66-8854DF1075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7FFDD7-EC3C-40D7-AB8C-739B20F89A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BCA6-2F75-4825-BF0C-5D9666802FC3}"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B4B83-0BE5-4BB3-B466-1EEC6D02683C}"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FC44AF05-BDD6-4412-8776-4D914FBE7EE0}" type="datetime3">
              <a:rPr b="0" lang="en-US" sz="2000" spc="-1" strike="noStrike">
                <a:solidFill>
                  <a:srgbClr val="ffffcc"/>
                </a:solidFill>
                <a:latin typeface="Tahoma"/>
              </a:rPr>
              <a:t>July 31,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