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F3BBB96-2E2A-4E9F-99DA-47F0756F637C}"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89A49F9-574C-4CE0-8630-A9447143D5C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A15AE21-2A84-4838-9360-D39E94BA0AA6}"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EFF6211E-F117-4E97-B87F-44A4C45AF66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2A7B676-8F5C-4408-A7FD-BDAFC4B23B7F}"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8EC39D63-E48D-42BA-8754-9479C4469B1A}"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F4F6C80F-F20B-4709-ACBD-5802D1824D2E}"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9F2659-6D2D-47DD-A8A2-B0A8A9F649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E723F1-6E3F-43EE-BAC1-E3B332B347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394DD1-1DDF-493A-965B-68506EAE86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258A7E-482B-451E-A14F-96E76C9740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C18A04-6B9E-42C0-968E-6C38286ED5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C31011-11BF-49CA-957C-8E9931ECB6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5AEE5F-7928-4462-AE1A-9AF9E8A5D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40FD03-F75C-41FC-8FC1-E6A754313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01F146-6F77-45E0-B999-307F3F5B9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CC761E-93CD-49A1-B986-54D667E13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090427-01EE-443C-BB22-C2BC4D2FA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B983B1-C9C3-4248-8D11-5F07155914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1B1C2-B446-4D46-B719-74A56CEF1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5B52FB-8794-49F3-B39F-1AD85DF38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2D393E-8645-48A4-9313-F8A6FEF7F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3CEE93-5AD6-4ECC-BA42-DA67C865B3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A9BA70-A549-4BEF-B28D-1C1AB4B35C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177C98-FC94-4ABC-8A99-DDCE355BA1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58A2F1-3794-4A94-958D-0498BB4BE8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61BBE6-2F3A-42E7-BD81-3D1DDFE780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36DBFE-FF73-4E8F-BDD6-42FBBAF087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E23D3B-755F-4D9B-AD5F-F554B3C963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804F87-C693-47B4-93B1-908D86121C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354107-051F-4C94-80A5-8A8C299AA4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6C3D-2894-45E4-8C5A-CBD5DFE0D51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BE0D-CCA0-40E4-86CE-6189AD38DA97}"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17A7A5F6-7B99-45E0-A176-E597705E5804}" type="datetime3">
              <a:rPr b="0" lang="en-US" sz="2000" spc="-1" strike="noStrike">
                <a:solidFill>
                  <a:srgbClr val="ffffcc"/>
                </a:solidFill>
                <a:latin typeface="Tahoma"/>
              </a:rPr>
              <a:t>July 28,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